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E7EF-6AF9-4ADF-9254-15C32A4B3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2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760" y="3947040"/>
            <a:ext cx="82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D9E4-6495-4584-8850-BD075D557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76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6992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F8B3-AD83-4CC8-80C4-0B4A122FC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7760" y="159876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760" y="394704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04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7760" y="394704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C88B-3625-4C59-BDFA-88F9616F4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999AE-D889-400C-8985-B484199A3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2245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48186-C2DD-40FB-A8E6-9CAE4A44B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224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3F61A-142F-4F0F-A202-92B0C159B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0627B-02A9-4213-A856-F3F246634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9F63C-A406-4629-AF8E-3EB4617A8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245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C1467-F984-4BEB-8708-335B39882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76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67A30-D917-4C29-BCD7-D2E2EB52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2245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8B9E-A532-449B-877C-0EC84CE9C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6992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2D283-80D3-4E20-9F07-144CD01C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760" y="3947040"/>
            <a:ext cx="82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93624-E179-4037-955B-6B38B815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2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760" y="3947040"/>
            <a:ext cx="82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E949E-CFC6-4419-BD99-087C753A0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76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6992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FC64E-C219-45E1-8173-84210AC86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7760" y="159876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760" y="394704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04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7760" y="394704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24D1E-29D2-4C58-97C6-3D5598BAE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224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3470-4EB5-4654-BD79-376F4574C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421D-13ED-49AF-89AC-7D995AD72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8CD8-6549-4AA0-9044-652F4CB2B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245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C87F-0DB7-496A-9A19-7835DEEE3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76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D33B-7067-4C2B-974C-0153DF28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6992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4402-E6E9-459F-AA5A-3836B185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760" y="3947040"/>
            <a:ext cx="82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9A80-95B9-481C-B32E-AAFA161A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4760"/>
            <a:chOff x="0" y="0"/>
            <a:chExt cx="9140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0400" cy="6854760"/>
              <a:chOff x="0" y="0"/>
              <a:chExt cx="9140400" cy="6854760"/>
            </a:xfrm>
          </p:grpSpPr>
          <p:sp>
            <p:nvSpPr>
              <p:cNvPr id="3" name=""/>
              <p:cNvSpPr/>
              <p:nvPr/>
            </p:nvSpPr>
            <p:spPr>
              <a:xfrm>
                <a:off x="1080" y="1650960"/>
                <a:ext cx="91393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389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389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389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389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389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389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389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389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389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389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389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389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389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389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389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389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389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389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389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389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389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389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389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389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37160" cy="1657440"/>
                <a:chOff x="0" y="0"/>
                <a:chExt cx="9137160" cy="165744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0880" y="0"/>
                  <a:ext cx="66600" cy="165744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8440" y="0"/>
                  <a:ext cx="245880" cy="165744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1200" y="0"/>
                  <a:ext cx="380520" cy="165744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6000" y="0"/>
                  <a:ext cx="559800" cy="165744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799640" y="0"/>
                  <a:ext cx="713880" cy="165744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2920" y="0"/>
                  <a:ext cx="856800" cy="165744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280" y="0"/>
                  <a:ext cx="1018440" cy="165744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000"/>
                  <a:ext cx="999720" cy="148608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3760" y="0"/>
                  <a:ext cx="245880" cy="165744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6640" y="0"/>
                  <a:ext cx="380520" cy="165744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3840" y="0"/>
                  <a:ext cx="569520" cy="165744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68200" y="0"/>
                  <a:ext cx="712440" cy="165744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09280" y="0"/>
                  <a:ext cx="858240" cy="165744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6480" y="0"/>
                  <a:ext cx="1018440" cy="165744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1200" y="75960"/>
                  <a:ext cx="1065960" cy="158112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37160" cy="771480"/>
                <a:chOff x="0" y="885960"/>
                <a:chExt cx="9137160" cy="77148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0640"/>
                  <a:ext cx="485280" cy="67644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5280" y="885960"/>
                  <a:ext cx="551880" cy="77148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8680" y="1649520"/>
                <a:ext cx="8251200" cy="5205240"/>
                <a:chOff x="418680" y="1649520"/>
                <a:chExt cx="8251200" cy="52052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0520" y="1649520"/>
                  <a:ext cx="66600" cy="52052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7840" y="1649520"/>
                  <a:ext cx="636120" cy="52052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7480" y="1649520"/>
                  <a:ext cx="1073880" cy="52052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89600" y="1649520"/>
                  <a:ext cx="1635840" cy="52052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8680" y="1649520"/>
                  <a:ext cx="2093040" cy="52052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3040" y="1649520"/>
                  <a:ext cx="637920" cy="52052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5920" y="1649520"/>
                  <a:ext cx="1073880" cy="52052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4560" y="1649520"/>
                  <a:ext cx="1643760" cy="52052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4240" y="1649520"/>
                  <a:ext cx="2105640" cy="52052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08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44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28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384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2160" y="1649520"/>
                <a:ext cx="202644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0440" y="1649520"/>
                <a:ext cx="156816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5520" y="1649520"/>
                <a:ext cx="106308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89600" y="1649520"/>
                <a:ext cx="54900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286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3720" y="6241680"/>
            <a:ext cx="28940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290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5243D9-DC78-42AC-A120-B15A454CC52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760" y="1598760"/>
            <a:ext cx="8224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0760" cy="6854760"/>
            <a:chOff x="0" y="0"/>
            <a:chExt cx="9140760" cy="68547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0400" cy="6854760"/>
              <a:chOff x="0" y="0"/>
              <a:chExt cx="9140400" cy="6854760"/>
            </a:xfrm>
          </p:grpSpPr>
          <p:sp>
            <p:nvSpPr>
              <p:cNvPr id="109" name=""/>
              <p:cNvSpPr/>
              <p:nvPr/>
            </p:nvSpPr>
            <p:spPr>
              <a:xfrm>
                <a:off x="1080" y="1650960"/>
                <a:ext cx="91393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389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389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389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389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389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389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389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389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389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389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389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389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389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389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389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389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389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389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389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389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389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389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389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389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37160" cy="1657440"/>
                <a:chOff x="0" y="0"/>
                <a:chExt cx="9137160" cy="165744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0880" y="0"/>
                  <a:ext cx="66600" cy="165744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8440" y="0"/>
                  <a:ext cx="245880" cy="165744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1200" y="0"/>
                  <a:ext cx="380520" cy="165744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6000" y="0"/>
                  <a:ext cx="559800" cy="165744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799640" y="0"/>
                  <a:ext cx="713880" cy="165744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2920" y="0"/>
                  <a:ext cx="856800" cy="165744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280" y="0"/>
                  <a:ext cx="1018440" cy="165744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000"/>
                  <a:ext cx="999720" cy="148608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3760" y="0"/>
                  <a:ext cx="245880" cy="165744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6640" y="0"/>
                  <a:ext cx="380520" cy="165744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3840" y="0"/>
                  <a:ext cx="569520" cy="165744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68200" y="0"/>
                  <a:ext cx="712440" cy="165744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09280" y="0"/>
                  <a:ext cx="858240" cy="165744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6480" y="0"/>
                  <a:ext cx="1018440" cy="165744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1200" y="75960"/>
                  <a:ext cx="1065960" cy="158112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37160" cy="771480"/>
                <a:chOff x="0" y="885960"/>
                <a:chExt cx="9137160" cy="77148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0640"/>
                  <a:ext cx="485280" cy="67644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5280" y="885960"/>
                  <a:ext cx="551880" cy="77148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8680" y="1649520"/>
                <a:ext cx="8251200" cy="5205240"/>
                <a:chOff x="418680" y="1649520"/>
                <a:chExt cx="8251200" cy="52052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0520" y="1649520"/>
                  <a:ext cx="66600" cy="52052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7840" y="1649520"/>
                  <a:ext cx="636120" cy="52052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7480" y="1649520"/>
                  <a:ext cx="1073880" cy="52052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89600" y="1649520"/>
                  <a:ext cx="1635840" cy="52052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8680" y="1649520"/>
                  <a:ext cx="2093040" cy="52052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3040" y="1649520"/>
                  <a:ext cx="637920" cy="52052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5920" y="1649520"/>
                  <a:ext cx="1073880" cy="52052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4560" y="1649520"/>
                  <a:ext cx="1643760" cy="52052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4240" y="1649520"/>
                  <a:ext cx="2105640" cy="52052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08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44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28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384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2160" y="1649520"/>
                <a:ext cx="202644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0440" y="1649520"/>
                <a:ext cx="156816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5520" y="1649520"/>
                <a:ext cx="106308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89600" y="1649520"/>
                <a:ext cx="54900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760" y="1920960"/>
            <a:ext cx="82245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286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3720" y="6241680"/>
            <a:ext cx="28940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290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1985DB-A2DD-4237-8301-FF8D5AB1CEE5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upload.wikimedia.org/wikipedia/commons/0/05/HONDA_ASIMO.jpg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Japanese Robotics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295280" y="5638680"/>
            <a:ext cx="6400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: Ethan &amp; Denn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581280" y="2438280"/>
            <a:ext cx="216540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224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Sit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Youtube.co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ww.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wikipedia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org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ifferent Types of Japanes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Robo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22636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umanoid robo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ndustrial robo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ndroi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nimal robo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uard robo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scue robot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Humanoi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55400" y="1598400"/>
            <a:ext cx="4035240" cy="29732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4643280" y="1598400"/>
            <a:ext cx="4037040" cy="297324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5760" y="4724280"/>
            <a:ext cx="822456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humanoid is a type of robot that is made to act like a human. (talk, walk, ect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1" name="" descr="File:HONDA ASIMO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371600" y="1600200"/>
            <a:ext cx="2092320" cy="29718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4648320" y="1820880"/>
            <a:ext cx="4038480" cy="23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dustrial Robo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5400" y="1676520"/>
            <a:ext cx="403524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ustrial robots are usually robotic arms that are used to make different types of things like cars, metal parts and other everyday applianc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5638680" y="1600200"/>
            <a:ext cx="2114640" cy="2590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5257800" y="4343400"/>
            <a:ext cx="289728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ndroi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5760" y="4647960"/>
            <a:ext cx="82245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ndroid is a robot or synthetic organism designed to look and act like a human. An android is similar to a humanoid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2360880" cy="35416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886200" y="152388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nimal Robo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5760" y="3922200"/>
            <a:ext cx="822456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ing able to walk, see its environment through camera, and recognize spoken commands in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日本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lish, the AIBO robotic pets are considered to be a robot since they are able to learn and mature based on external stimuli from their owner or environment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119400" y="1598760"/>
            <a:ext cx="289548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uard Robo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760" y="3962520"/>
            <a:ext cx="822456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6560" indent="-286560">
              <a:lnSpc>
                <a:spcPct val="83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uardrobo D1 is a 198-pound robot that guards against intruders, fires and water leaks. It is approximately 3 feet 6 inches tall.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ith cameras and sensors, the Guardrobo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1 patrols a preprogrammed route in the building where it operates. It can send camera footage or contact people by radio if there is a fire or a break-in. It is equipped with a fire extinguisher and can also shoot paint bullets at strangers.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3276720" y="1219320"/>
            <a:ext cx="21319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scue Robo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760" y="4800240"/>
            <a:ext cx="8224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scue robots are used for aiding rescue workers in natural disasters, fires, hostage situations, or explosions were it’s to dangerous for humans to go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386712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resting fac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224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obots have been around since the 18</a:t>
            </a:r>
            <a:r>
              <a:rPr b="0" lang="en-US" sz="2400" spc="-1" strike="noStrike" baseline="30000">
                <a:solidFill>
                  <a:srgbClr val="eaeaea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centur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e first known case of robot homicide occurred in 1981, when a robotic arm crushed a Japanese Kawasaki factory worker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inebot, built by Japan’s NEC System Technologies and Mie University, can ID scads of different wines and cheeses. It recently mistook a reporter’s hand for prosciutto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THAN FLINT</dc:creator>
  <dc:description/>
  <dc:language>en-US</dc:language>
  <cp:lastModifiedBy>ETHAN FLINT</cp:lastModifiedBy>
  <dcterms:modified xsi:type="dcterms:W3CDTF">2009-12-15T03:01:05Z</dcterms:modified>
  <cp:revision>6</cp:revision>
  <dc:subject/>
  <dc:title>Japanese Robtics </dc:title>
</cp:coreProperties>
</file>